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3759-D43F-469A-B471-969F0245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482A-7180-4769-93E2-73171184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A2C2-7BF3-4D3F-84A5-79E4E496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E57C-D9E2-4989-860F-974736EB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2732-A51D-4E17-9FC2-5368A680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8370-0B5A-4E59-B404-64FDFDB0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DAA6-C8C8-4771-A0E2-E9ADC198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9BE-CC6E-4C9D-BC1A-20ADBB85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5A21-53CA-4459-AEFF-316F8827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20E7-0999-41E7-8467-2914B30A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07ED-7E26-41F2-B5FA-355B1D69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4D3F-1187-4140-8598-D370D070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EBBD-702A-4C59-A138-51767CC4B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1196640"/>
            <a:ext cx="540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09T20:40:13Z</dcterms:modified>
  <cp:revision>38</cp:revision>
  <dc:subject/>
  <dc:title>Texto</dc:title>
</cp:coreProperties>
</file>